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9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2.jpeg" ContentType="image/jpeg"/>
  <Override PartName="/ppt/media/image40.wmf" ContentType="image/x-wmf"/>
  <Override PartName="/ppt/media/image39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13.wmf" ContentType="image/x-wmf"/>
  <Override PartName="/ppt/media/image41.wmf" ContentType="image/x-wmf"/>
  <Override PartName="/ppt/media/image4.gif" ContentType="image/gif"/>
  <Override PartName="/ppt/media/image8.jpeg" ContentType="image/jpeg"/>
  <Override PartName="/ppt/media/image48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30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7.wmf" ContentType="image/x-wmf"/>
  <Override PartName="/ppt/media/image15.jpeg" ContentType="image/jpeg"/>
  <Override PartName="/ppt/media/image62.wmf" ContentType="image/x-wmf"/>
  <Override PartName="/ppt/media/image63.wmf" ContentType="image/x-wmf"/>
  <Override PartName="/ppt/media/image65.wmf" ContentType="image/x-wmf"/>
  <Override PartName="/ppt/media/image66.wmf" ContentType="image/x-wmf"/>
  <Override PartName="/ppt/media/image27.wmf" ContentType="image/x-wmf"/>
  <Override PartName="/ppt/media/image64.wmf" ContentType="image/x-wmf"/>
  <Override PartName="/ppt/media/image81.png" ContentType="image/png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69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20.wmf" ContentType="image/x-wmf"/>
  <Override PartName="/ppt/media/image16.wmf" ContentType="image/x-wmf"/>
  <Override PartName="/ppt/media/image57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51.wmf" ContentType="image/x-wmf"/>
  <Override PartName="/ppt/media/image26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7.jpeg" ContentType="image/jpeg"/>
  <Override PartName="/ppt/media/image12.gif" ContentType="image/gif"/>
  <Override PartName="/ppt/media/image45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36BF-66C6-4228-B938-8213868FD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  Ctrl-End for help on creating a new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slide immediately follows each question slide.  Click on question mark to go to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left box at bottom returns to game board.  Clicking right box returns to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767-B008-419C-8110-FF646D9A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1A5-B8BF-453D-867C-9D4464FC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B63-FAAD-4084-9CF9-DEBD1066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061-E019-4B21-9DBC-DEAD646C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CB7-CBEF-4DDF-A4A4-C9A7667C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2AE-418F-4FB4-9733-3CF205DE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51B-1548-4787-A2E0-1AEAC921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69F-A768-4B37-B4FD-E1EFDA41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37F-EB34-4642-9BFF-F7984525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EFA-A9E4-4B92-9C87-CB8CEFDE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E2B-546F-497E-A809-52E1704D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273-8BB0-443B-8B3A-DA380EB5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8F1B-AE3B-499E-ACD0-4EF651C4B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slide" Target="slide4.xml"/><Relationship Id="rId5" Type="http://schemas.openxmlformats.org/officeDocument/2006/relationships/image" Target="../media/image1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" Target="slide3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image" Target="../media/image12.gi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4.xml"/><Relationship Id="rId4" Type="http://schemas.openxmlformats.org/officeDocument/2006/relationships/image" Target="../media/image3.wmf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image" Target="../media/image4.gi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2.gi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0.xml"/><Relationship Id="rId5" Type="http://schemas.openxmlformats.org/officeDocument/2006/relationships/slide" Target="slide38.xml"/><Relationship Id="rId6" Type="http://schemas.openxmlformats.org/officeDocument/2006/relationships/slide" Target="slide28.xml"/><Relationship Id="rId7" Type="http://schemas.openxmlformats.org/officeDocument/2006/relationships/slide" Target="slide36.xml"/><Relationship Id="rId8" Type="http://schemas.openxmlformats.org/officeDocument/2006/relationships/slide" Target="slide26.xml"/><Relationship Id="rId9" Type="http://schemas.openxmlformats.org/officeDocument/2006/relationships/slide" Target="slide34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32.xml"/><Relationship Id="rId13" Type="http://schemas.openxmlformats.org/officeDocument/2006/relationships/slide" Target="slide30.xml"/><Relationship Id="rId14" Type="http://schemas.openxmlformats.org/officeDocument/2006/relationships/slide" Target="slide18.xml"/><Relationship Id="rId15" Type="http://schemas.openxmlformats.org/officeDocument/2006/relationships/slide" Target="slide16.xml"/><Relationship Id="rId16" Type="http://schemas.openxmlformats.org/officeDocument/2006/relationships/slide" Target="slide58.xml"/><Relationship Id="rId17" Type="http://schemas.openxmlformats.org/officeDocument/2006/relationships/slide" Target="slide56.xml"/><Relationship Id="rId18" Type="http://schemas.openxmlformats.org/officeDocument/2006/relationships/slide" Target="slide54.xml"/><Relationship Id="rId19" Type="http://schemas.openxmlformats.org/officeDocument/2006/relationships/slide" Target="slide52.xml"/><Relationship Id="rId20" Type="http://schemas.openxmlformats.org/officeDocument/2006/relationships/slide" Target="slide50.xml"/><Relationship Id="rId21" Type="http://schemas.openxmlformats.org/officeDocument/2006/relationships/slide" Target="slide48.xml"/><Relationship Id="rId22" Type="http://schemas.openxmlformats.org/officeDocument/2006/relationships/slide" Target="slide46.xml"/><Relationship Id="rId23" Type="http://schemas.openxmlformats.org/officeDocument/2006/relationships/slide" Target="slide44.xml"/><Relationship Id="rId24" Type="http://schemas.openxmlformats.org/officeDocument/2006/relationships/slide" Target="slide42.xml"/><Relationship Id="rId25" Type="http://schemas.openxmlformats.org/officeDocument/2006/relationships/slide" Target="slide40.xml"/><Relationship Id="rId26" Type="http://schemas.openxmlformats.org/officeDocument/2006/relationships/slide" Target="slide12.xml"/><Relationship Id="rId27" Type="http://schemas.openxmlformats.org/officeDocument/2006/relationships/slide" Target="slide62.xml"/><Relationship Id="rId28" Type="http://schemas.openxmlformats.org/officeDocument/2006/relationships/slide" Target="slide60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slide5.xml"/><Relationship Id="rId33" Type="http://schemas.openxmlformats.org/officeDocument/2006/relationships/slide" Target="slide6.xml"/><Relationship Id="rId34" Type="http://schemas.openxmlformats.org/officeDocument/2006/relationships/slide" Target="slide7.xml"/><Relationship Id="rId35" Type="http://schemas.openxmlformats.org/officeDocument/2006/relationships/slide" Target="slide8.xml"/><Relationship Id="rId36" Type="http://schemas.openxmlformats.org/officeDocument/2006/relationships/slide" Target="slide9.xml"/><Relationship Id="rId37" Type="http://schemas.openxmlformats.org/officeDocument/2006/relationships/slide" Target="slide10.xml"/><Relationship Id="rId38" Type="http://schemas.openxmlformats.org/officeDocument/2006/relationships/slide" Target="slide74.xml"/><Relationship Id="rId3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.wm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image" Target="../media/image1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wmf"/><Relationship Id="rId6" Type="http://schemas.openxmlformats.org/officeDocument/2006/relationships/image" Target="../media/image12.gi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9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9.wm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wmf"/><Relationship Id="rId5" Type="http://schemas.openxmlformats.org/officeDocument/2006/relationships/image" Target="../media/image33.wmf"/><Relationship Id="rId6" Type="http://schemas.openxmlformats.org/officeDocument/2006/relationships/image" Target="../media/image12.gi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3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image" Target="../media/image1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wmf"/><Relationship Id="rId6" Type="http://schemas.openxmlformats.org/officeDocument/2006/relationships/image" Target="../media/image12.gi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1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1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3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7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image" Target="../media/image1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wmf"/><Relationship Id="rId6" Type="http://schemas.openxmlformats.org/officeDocument/2006/relationships/image" Target="../media/image12.gif"/><Relationship Id="rId7" Type="http://schemas.openxmlformats.org/officeDocument/2006/relationships/slide" Target="slide3.xml"/><Relationship Id="rId8" Type="http://schemas.openxmlformats.org/officeDocument/2006/relationships/image" Target="../media/image1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9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1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3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5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7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7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9.wmf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9.wmf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1.png"/><Relationship Id="rId3" Type="http://schemas.openxmlformats.org/officeDocument/2006/relationships/image" Target="../media/image81.png"/><Relationship Id="rId4" Type="http://schemas.openxmlformats.org/officeDocument/2006/relationships/image" Target="../media/image81.png"/><Relationship Id="rId5" Type="http://schemas.openxmlformats.org/officeDocument/2006/relationships/image" Target="../media/image33.wmf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1981080"/>
            <a:ext cx="77724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ss  F5  t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rt gam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-304920"/>
            <a:ext cx="17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mplate Version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7120" y="2133720"/>
          <a:ext cx="54403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7120" y="2133720"/>
                    <a:ext cx="54403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159" name="j017262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61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j010517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64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765520" y="2800440"/>
          <a:ext cx="57229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5520" y="2800440"/>
                    <a:ext cx="57229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2438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17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6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178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>
              <a:hlinkClick r:id="rId7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181" name=""/>
          <p:cNvGraphicFramePr/>
          <p:nvPr/>
        </p:nvGraphicFramePr>
        <p:xfrm>
          <a:off x="0" y="2666880"/>
          <a:ext cx="2819520" cy="113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666880"/>
                    <a:ext cx="281952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1841400" y="2133720"/>
          <a:ext cx="5353200" cy="21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41400" y="2133720"/>
                    <a:ext cx="53532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193" name="j017262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5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97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>
              <a:hlinkClick r:id="rId9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43200" y="1523880"/>
            <a:ext cx="57913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84400" y="2800440"/>
          <a:ext cx="528336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0" y="2800440"/>
                    <a:ext cx="52833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1160" y="3132000"/>
          <a:ext cx="2720880" cy="11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" y="3132000"/>
                    <a:ext cx="272088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08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21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4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79840" y="247968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762120" y="2452680"/>
          <a:ext cx="7772400" cy="19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452680"/>
                    <a:ext cx="777240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225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27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229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819520" y="1523880"/>
            <a:ext cx="57150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3301920"/>
          <a:ext cx="2819520" cy="70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01920"/>
                    <a:ext cx="28195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895480" y="3019320"/>
          <a:ext cx="5486400" cy="101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3019320"/>
                    <a:ext cx="54864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4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24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7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343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989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914400" y="2521080"/>
          <a:ext cx="7467480" cy="18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21080"/>
                    <a:ext cx="746748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257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59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26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048120" y="2906640"/>
          <a:ext cx="5486400" cy="12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906640"/>
                    <a:ext cx="548640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0" y="3230640"/>
          <a:ext cx="2819520" cy="71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230640"/>
                    <a:ext cx="28195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27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27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79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914400" y="2743200"/>
          <a:ext cx="7437600" cy="16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743200"/>
                    <a:ext cx="743760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287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89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29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895480" y="2889360"/>
          <a:ext cx="5486400" cy="95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889360"/>
                    <a:ext cx="54864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0" y="3046320"/>
          <a:ext cx="2895480" cy="63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046320"/>
                    <a:ext cx="28954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30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30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09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64400" y="514440"/>
            <a:ext cx="393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99"/>
                </a:solidFill>
                <a:latin typeface="Times New Roman"/>
              </a:rPr>
              <a:t>This is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D05092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895480"/>
            <a:ext cx="3803760" cy="3451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ing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60948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th Jeopard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5562720" y="5638680"/>
            <a:ext cx="3581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023646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8880" y="539424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58" name="BD05091_" descr=""/>
          <p:cNvPicPr/>
          <p:nvPr/>
        </p:nvPicPr>
        <p:blipFill>
          <a:blip r:embed="rId8"/>
          <a:stretch/>
        </p:blipFill>
        <p:spPr>
          <a:xfrm>
            <a:off x="1447920" y="0"/>
            <a:ext cx="3322440" cy="3027240"/>
          </a:xfrm>
          <a:prstGeom prst="rect">
            <a:avLst/>
          </a:prstGeom>
          <a:ln w="0">
            <a:noFill/>
          </a:ln>
        </p:spPr>
      </p:pic>
      <p:pic>
        <p:nvPicPr>
          <p:cNvPr id="59" name="j0182990" descr=""/>
          <p:cNvPicPr/>
          <p:nvPr/>
        </p:nvPicPr>
        <p:blipFill>
          <a:blip r:embed="rId9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2520" y="3047760"/>
            <a:ext cx="3886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Expressions and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130271" descr=""/>
          <p:cNvPicPr/>
          <p:nvPr/>
        </p:nvPicPr>
        <p:blipFill>
          <a:blip r:embed="rId10"/>
          <a:stretch/>
        </p:blipFill>
        <p:spPr>
          <a:xfrm>
            <a:off x="2057400" y="2362320"/>
            <a:ext cx="4672080" cy="428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019400" y="1847880"/>
                <a:ext cx="11304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990720" y="2971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565440" y="2798640"/>
          <a:ext cx="213372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5440" y="2798640"/>
                    <a:ext cx="213372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321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3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32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1676520"/>
            <a:ext cx="28195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60720" y="2666880"/>
          <a:ext cx="5283360" cy="15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60720" y="2666880"/>
                    <a:ext cx="5283360" cy="15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533520" y="2478240"/>
          <a:ext cx="2133360" cy="15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478240"/>
                    <a:ext cx="213336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7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338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34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44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341520" y="2798640"/>
          <a:ext cx="258300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1520" y="2798640"/>
                    <a:ext cx="25830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354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56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358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984400" y="2800440"/>
          <a:ext cx="528336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0" y="2800440"/>
                    <a:ext cx="52833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28600" y="2478240"/>
          <a:ext cx="2583000" cy="15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478240"/>
                    <a:ext cx="25830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370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37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76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895480" y="1760400"/>
          <a:ext cx="404172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760400"/>
                    <a:ext cx="404172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3" name=""/>
          <p:cNvGrpSpPr/>
          <p:nvPr/>
        </p:nvGrpSpPr>
        <p:grpSpPr>
          <a:xfrm>
            <a:off x="2971800" y="3657600"/>
            <a:ext cx="4181400" cy="2233440"/>
            <a:chOff x="2971800" y="3657600"/>
            <a:chExt cx="4181400" cy="2233440"/>
          </a:xfrm>
        </p:grpSpPr>
        <p:pic>
          <p:nvPicPr>
            <p:cNvPr id="384" name="" descr=""/>
            <p:cNvPicPr/>
            <p:nvPr/>
          </p:nvPicPr>
          <p:blipFill>
            <a:blip r:embed="rId5"/>
            <a:stretch/>
          </p:blipFill>
          <p:spPr>
            <a:xfrm>
              <a:off x="3733920" y="365760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 txBox="1"/>
            <p:nvPr/>
          </p:nvSpPr>
          <p:spPr>
            <a:xfrm>
              <a:off x="2971800" y="434340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387" name="j017262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89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391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>
              <a:hlinkClick r:id="rId9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259080" y="2798640"/>
          <a:ext cx="4732560" cy="154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9080" y="2798640"/>
                    <a:ext cx="473256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0" y="2513160"/>
          <a:ext cx="2819520" cy="105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513160"/>
                    <a:ext cx="281952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0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40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09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625840" y="2798640"/>
          <a:ext cx="401472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5840" y="2798640"/>
                    <a:ext cx="401472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417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19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42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314880" y="2800440"/>
          <a:ext cx="462276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14880" y="2800440"/>
                    <a:ext cx="46227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0" y="2927520"/>
          <a:ext cx="2819520" cy="105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927520"/>
                    <a:ext cx="281952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3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43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39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486160" y="2798640"/>
          <a:ext cx="429408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6160" y="2798640"/>
                    <a:ext cx="429408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6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447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49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45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2765520" y="2800440"/>
          <a:ext cx="57229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5520" y="2800440"/>
                    <a:ext cx="57229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0" y="2995560"/>
          <a:ext cx="2819520" cy="99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995560"/>
                    <a:ext cx="2819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6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46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69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28600"/>
            <a:ext cx="8686800" cy="838080"/>
          </a:xfrm>
          <a:prstGeom prst="rect">
            <a:avLst/>
          </a:prstGeom>
          <a:solidFill>
            <a:srgbClr val="00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ath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380880" y="1447920"/>
            <a:ext cx="106704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b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$5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5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3526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6" action="ppaction://hlinksldjump"/>
              </a:rPr>
              <a:t>$2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3429000"/>
            <a:ext cx="87624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42670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2" action="ppaction://hlinksldjump"/>
          </p:cNvPr>
          <p:cNvSpPr/>
          <p:nvPr/>
        </p:nvSpPr>
        <p:spPr>
          <a:xfrm>
            <a:off x="190512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3" action="ppaction://hlinksldjump"/>
          </p:cNvPr>
          <p:cNvSpPr/>
          <p:nvPr/>
        </p:nvSpPr>
        <p:spPr>
          <a:xfrm>
            <a:off x="3276720" y="1447920"/>
            <a:ext cx="121896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e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4" action="ppaction://hlinksldjump"/>
          </p:cNvPr>
          <p:cNvSpPr/>
          <p:nvPr/>
        </p:nvSpPr>
        <p:spPr>
          <a:xfrm>
            <a:off x="48006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 both s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5" action="ppaction://hlinksldjump"/>
          </p:cNvPr>
          <p:cNvSpPr/>
          <p:nvPr/>
        </p:nvSpPr>
        <p:spPr>
          <a:xfrm>
            <a:off x="624852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t’s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6" action="ppaction://hlinksldjump"/>
          </p:cNvPr>
          <p:cNvSpPr/>
          <p:nvPr/>
        </p:nvSpPr>
        <p:spPr>
          <a:xfrm>
            <a:off x="77724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n’t be 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7" action="ppaction://hlinksldjump"/>
              </a:rPr>
              <a:t>$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9560" y="20574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lick on a category for hel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>
            <a:hlinkClick r:id="rId38" action="ppaction://hlinksldjump"/>
          </p:cNvPr>
          <p:cNvSpPr/>
          <p:nvPr/>
        </p:nvSpPr>
        <p:spPr>
          <a:xfrm>
            <a:off x="2362320" y="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4" name=""/>
          <p:cNvGraphicFramePr/>
          <p:nvPr/>
        </p:nvGraphicFramePr>
        <p:xfrm>
          <a:off x="2438280" y="1752480"/>
          <a:ext cx="4373640" cy="310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752480"/>
                    <a:ext cx="4373640" cy="31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478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0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482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3754440" y="2854440"/>
          <a:ext cx="374184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54440" y="2854440"/>
                    <a:ext cx="374184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0" y="2552760"/>
          <a:ext cx="2819520" cy="200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552760"/>
                    <a:ext cx="281952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3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494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49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00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503440" y="1816200"/>
          <a:ext cx="437364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3440" y="1816200"/>
                    <a:ext cx="437364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7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508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10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512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084560" y="2854440"/>
          <a:ext cx="3081240" cy="14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84560" y="2854440"/>
                    <a:ext cx="308124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0" y="2023920"/>
          <a:ext cx="2819520" cy="20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023920"/>
                    <a:ext cx="281952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525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>
              <a:hlinkClick r:id="rId9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52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31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2503440" y="1968480"/>
          <a:ext cx="437364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3440" y="1968480"/>
                    <a:ext cx="437364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8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539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41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54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0" y="2079720"/>
          <a:ext cx="2743200" cy="19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079720"/>
                    <a:ext cx="2743200" cy="19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55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55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61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401920" y="1816200"/>
          <a:ext cx="457848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1920" y="1816200"/>
                    <a:ext cx="457848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8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569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71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57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895480" y="1523880"/>
            <a:ext cx="59436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0" y="2166840"/>
          <a:ext cx="2743200" cy="187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166840"/>
                    <a:ext cx="27432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58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58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91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rId1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2371680" y="1892160"/>
          <a:ext cx="4637160" cy="313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71680" y="1892160"/>
                    <a:ext cx="463716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9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600" name="j017262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02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604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>
              <a:hlinkClick r:id="rId9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819520" y="1523880"/>
            <a:ext cx="56386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4572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4038480" y="1066680"/>
          <a:ext cx="320040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066680"/>
                    <a:ext cx="320040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0" y="2243160"/>
          <a:ext cx="2666880" cy="180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243160"/>
                    <a:ext cx="266688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16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62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22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1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-533520"/>
            <a:ext cx="251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"/>
          <p:cNvGraphicFramePr/>
          <p:nvPr/>
        </p:nvGraphicFramePr>
        <p:xfrm>
          <a:off x="1709640" y="2133720"/>
          <a:ext cx="561492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9640" y="2133720"/>
                    <a:ext cx="56149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630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32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634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0" y="2916360"/>
          <a:ext cx="2819520" cy="109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916360"/>
                    <a:ext cx="281952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47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>
              <a:hlinkClick r:id="rId9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65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53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2057400" y="1752480"/>
          <a:ext cx="5133960" cy="21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1752480"/>
                    <a:ext cx="513396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0" name=""/>
          <p:cNvGrpSpPr/>
          <p:nvPr/>
        </p:nvGrpSpPr>
        <p:grpSpPr>
          <a:xfrm>
            <a:off x="2819520" y="3886200"/>
            <a:ext cx="4181400" cy="2233440"/>
            <a:chOff x="2819520" y="3886200"/>
            <a:chExt cx="4181400" cy="2233440"/>
          </a:xfrm>
        </p:grpSpPr>
        <p:pic>
          <p:nvPicPr>
            <p:cNvPr id="661" name="" descr=""/>
            <p:cNvPicPr/>
            <p:nvPr/>
          </p:nvPicPr>
          <p:blipFill>
            <a:blip r:embed="rId5"/>
            <a:stretch/>
          </p:blipFill>
          <p:spPr>
            <a:xfrm>
              <a:off x="3581640" y="388620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 txBox="1"/>
            <p:nvPr/>
          </p:nvSpPr>
          <p:spPr>
            <a:xfrm>
              <a:off x="2819520" y="457200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664" name="j017262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66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668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>
              <a:hlinkClick r:id="rId9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0" y="2813040"/>
          <a:ext cx="2819520" cy="12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813040"/>
                    <a:ext cx="28195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9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680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68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86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490760" y="2133720"/>
          <a:ext cx="60544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0760" y="2133720"/>
                    <a:ext cx="60544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3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694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96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698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0" y="2816280"/>
          <a:ext cx="2895480" cy="104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816280"/>
                    <a:ext cx="28954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9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10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71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16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1227240" y="2133720"/>
          <a:ext cx="658152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7240" y="2133720"/>
                    <a:ext cx="6581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3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724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26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728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3700440" y="2854440"/>
          <a:ext cx="385128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0440" y="2854440"/>
                    <a:ext cx="38512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0" y="3129120"/>
          <a:ext cx="2895480" cy="96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129120"/>
                    <a:ext cx="2895480" cy="9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9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40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74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46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1249200" y="2133720"/>
          <a:ext cx="653760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9200" y="2133720"/>
                    <a:ext cx="6537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3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754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56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758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3700440" y="2800440"/>
          <a:ext cx="385128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0440" y="2800440"/>
                    <a:ext cx="38512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0" y="2919240"/>
          <a:ext cx="2819520" cy="9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919240"/>
                    <a:ext cx="28195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0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771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>
              <a:hlinkClick r:id="rId9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77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77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2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>
            <a:hlinkClick r:id="rId1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2" name=""/>
          <p:cNvGraphicFramePr/>
          <p:nvPr/>
        </p:nvGraphicFramePr>
        <p:xfrm>
          <a:off x="2565360" y="2809800"/>
          <a:ext cx="3903840" cy="83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65360" y="2809800"/>
                    <a:ext cx="39038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786" name="j017262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88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790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>
              <a:hlinkClick r:id="rId9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4579920" y="2800440"/>
          <a:ext cx="209088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9920" y="2800440"/>
                    <a:ext cx="20908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0" y="3049560"/>
          <a:ext cx="281952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049560"/>
                    <a:ext cx="28195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1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02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80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08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886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191120" y="5638680"/>
            <a:ext cx="1209600" cy="105588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2666880" y="2514600"/>
          <a:ext cx="3861000" cy="8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514600"/>
                    <a:ext cx="3861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6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817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19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821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4249800" y="2800440"/>
          <a:ext cx="2751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9800" y="2800440"/>
                    <a:ext cx="2751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0" y="3135240"/>
          <a:ext cx="2743200" cy="59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135240"/>
                    <a:ext cx="27432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3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83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39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3575160" y="2176560"/>
          <a:ext cx="1885680" cy="20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5160" y="2176560"/>
                    <a:ext cx="188568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7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848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50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852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3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4194000" y="2800440"/>
          <a:ext cx="286236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4000" y="2800440"/>
                    <a:ext cx="28623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685800" y="2514600"/>
          <a:ext cx="1886040" cy="20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2514600"/>
                    <a:ext cx="188604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3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64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86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70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2982960" y="2176560"/>
          <a:ext cx="3070080" cy="20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2960" y="2176560"/>
                    <a:ext cx="307008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879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81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88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4470480" y="1865160"/>
          <a:ext cx="2311200" cy="34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70480" y="1865160"/>
                    <a:ext cx="2311200" cy="34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"/>
          <p:cNvGraphicFramePr/>
          <p:nvPr/>
        </p:nvGraphicFramePr>
        <p:xfrm>
          <a:off x="380880" y="2514600"/>
          <a:ext cx="2438640" cy="166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2514600"/>
                    <a:ext cx="243864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89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89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01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4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565360" y="2176560"/>
          <a:ext cx="3903840" cy="20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2176560"/>
                    <a:ext cx="390384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8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909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11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913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4579920" y="2854440"/>
          <a:ext cx="209088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9920" y="2854440"/>
                    <a:ext cx="20908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2" name=""/>
          <p:cNvGraphicFramePr/>
          <p:nvPr/>
        </p:nvGraphicFramePr>
        <p:xfrm>
          <a:off x="0" y="2639880"/>
          <a:ext cx="2819520" cy="151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39880"/>
                    <a:ext cx="281952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4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2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92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31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3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rId1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6" name=""/>
          <p:cNvGraphicFramePr/>
          <p:nvPr/>
        </p:nvGraphicFramePr>
        <p:xfrm>
          <a:off x="3465360" y="2809800"/>
          <a:ext cx="2105280" cy="83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65360" y="2809800"/>
                    <a:ext cx="21052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940" name="j017262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42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944" name="Jeopardy%20Thumbnail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">
              <a:hlinkClick r:id="rId9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1" name=""/>
          <p:cNvGraphicFramePr/>
          <p:nvPr/>
        </p:nvGraphicFramePr>
        <p:xfrm>
          <a:off x="4249800" y="2800440"/>
          <a:ext cx="275112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9800" y="2800440"/>
                    <a:ext cx="2751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"/>
          <p:cNvGraphicFramePr/>
          <p:nvPr/>
        </p:nvGraphicFramePr>
        <p:xfrm>
          <a:off x="533520" y="2971800"/>
          <a:ext cx="2104920" cy="83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971800"/>
                    <a:ext cx="21049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5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56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96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62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3462480" y="2352600"/>
          <a:ext cx="2631960" cy="8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62480" y="2352600"/>
                    <a:ext cx="26319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9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970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72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974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4029120" y="2800440"/>
          <a:ext cx="319248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29120" y="2800440"/>
                    <a:ext cx="31924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3" name=""/>
          <p:cNvGraphicFramePr/>
          <p:nvPr/>
        </p:nvGraphicFramePr>
        <p:xfrm>
          <a:off x="228600" y="2895480"/>
          <a:ext cx="2631960" cy="83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895480"/>
                    <a:ext cx="263196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5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986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99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92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2916360" y="2700360"/>
          <a:ext cx="320328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700360"/>
                    <a:ext cx="320328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9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1000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02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004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04920" y="91440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2" name=""/>
          <p:cNvGraphicFramePr/>
          <p:nvPr/>
        </p:nvGraphicFramePr>
        <p:xfrm>
          <a:off x="4305240" y="2854440"/>
          <a:ext cx="264168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05240" y="2854440"/>
                    <a:ext cx="26416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4" name=""/>
          <p:cNvGraphicFramePr/>
          <p:nvPr/>
        </p:nvGraphicFramePr>
        <p:xfrm>
          <a:off x="152280" y="3200400"/>
          <a:ext cx="2590920" cy="84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200400"/>
                    <a:ext cx="25909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1017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102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23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6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8" name=""/>
          <p:cNvGraphicFramePr/>
          <p:nvPr/>
        </p:nvGraphicFramePr>
        <p:xfrm>
          <a:off x="2960640" y="2809800"/>
          <a:ext cx="3114720" cy="8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60640" y="2809800"/>
                    <a:ext cx="31147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0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1031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33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03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3533760" y="2800440"/>
          <a:ext cx="418320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33760" y="2800440"/>
                    <a:ext cx="41832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228600" y="3200400"/>
          <a:ext cx="2590920" cy="69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0400"/>
                    <a:ext cx="25909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1047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105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53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6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2389320" y="2700360"/>
          <a:ext cx="425592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9320" y="2700360"/>
                    <a:ext cx="425592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0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1061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63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06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-360" y="-38088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4305240" y="2854440"/>
          <a:ext cx="264168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05240" y="2854440"/>
                    <a:ext cx="26416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4" name=""/>
          <p:cNvGraphicFramePr/>
          <p:nvPr/>
        </p:nvGraphicFramePr>
        <p:xfrm>
          <a:off x="152280" y="3135240"/>
          <a:ext cx="2667240" cy="65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135240"/>
                    <a:ext cx="26672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1077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108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83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4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567080" y="0"/>
            <a:ext cx="61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7" name="j010517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8" name=""/>
          <p:cNvGraphicFramePr/>
          <p:nvPr/>
        </p:nvGraphicFramePr>
        <p:xfrm>
          <a:off x="1295280" y="2390760"/>
          <a:ext cx="6782040" cy="20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390760"/>
                    <a:ext cx="678204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0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1091" name="j017262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924680" y="5791320"/>
              <a:ext cx="990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"/>
            <p:cNvSpPr txBox="1"/>
            <p:nvPr/>
          </p:nvSpPr>
          <p:spPr>
            <a:xfrm>
              <a:off x="7848720" y="5943600"/>
              <a:ext cx="112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swer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93" name="">
              <a:hlinkClick r:id="" action="ppaction://hlinkshowjump?jump=next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095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53680" y="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2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4" name=""/>
          <p:cNvGraphicFramePr/>
          <p:nvPr/>
        </p:nvGraphicFramePr>
        <p:xfrm>
          <a:off x="0" y="3048120"/>
          <a:ext cx="28195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048120"/>
                    <a:ext cx="2819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6" name=""/>
          <p:cNvGrpSpPr/>
          <p:nvPr/>
        </p:nvGrpSpPr>
        <p:grpSpPr>
          <a:xfrm>
            <a:off x="7238880" y="5486400"/>
            <a:ext cx="1905120" cy="1371600"/>
            <a:chOff x="7238880" y="5486400"/>
            <a:chExt cx="1905120" cy="1371600"/>
          </a:xfrm>
        </p:grpSpPr>
        <p:pic>
          <p:nvPicPr>
            <p:cNvPr id="1107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1976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">
              <a:hlinkClick r:id="rId8" action="ppaction://hlinksldjump"/>
            </p:cNvPr>
            <p:cNvSpPr/>
            <p:nvPr/>
          </p:nvSpPr>
          <p:spPr>
            <a:xfrm>
              <a:off x="723888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 txBox="1"/>
            <p:nvPr/>
          </p:nvSpPr>
          <p:spPr>
            <a:xfrm>
              <a:off x="754380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0" y="5638680"/>
            <a:ext cx="1600200" cy="1219320"/>
            <a:chOff x="0" y="5638680"/>
            <a:chExt cx="1600200" cy="1219320"/>
          </a:xfrm>
        </p:grpSpPr>
        <p:pic>
          <p:nvPicPr>
            <p:cNvPr id="111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 txBox="1"/>
            <p:nvPr/>
          </p:nvSpPr>
          <p:spPr>
            <a:xfrm>
              <a:off x="3049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13" name="">
              <a:hlinkClick r:id="" action="ppaction://hlinkshowjump?jump=previousslide"/>
            </p:cNvPr>
            <p:cNvSpPr/>
            <p:nvPr/>
          </p:nvSpPr>
          <p:spPr>
            <a:xfrm>
              <a:off x="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e 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1752120" y="121932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0065A Slot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1828800" y="19810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9 Space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1828800" y="289548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7 Space Las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520" y="5638680"/>
            <a:ext cx="423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Not Dele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s objects for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4"/>
          <a:stretch/>
        </p:blipFill>
        <p:spPr>
          <a:xfrm>
            <a:off x="853920" y="384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1904760" y="37339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97484 Large Explo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and oth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4724280" y="4191120"/>
            <a:ext cx="4181400" cy="2233440"/>
            <a:chOff x="4724280" y="4191120"/>
            <a:chExt cx="4181400" cy="2233440"/>
          </a:xfrm>
        </p:grpSpPr>
        <p:pic>
          <p:nvPicPr>
            <p:cNvPr id="1131" name="" descr=""/>
            <p:cNvPicPr/>
            <p:nvPr/>
          </p:nvPicPr>
          <p:blipFill>
            <a:blip r:embed="rId5"/>
            <a:stretch/>
          </p:blipFill>
          <p:spPr>
            <a:xfrm>
              <a:off x="5486400" y="419112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2" name=""/>
            <p:cNvSpPr txBox="1"/>
            <p:nvPr/>
          </p:nvSpPr>
          <p:spPr>
            <a:xfrm>
              <a:off x="4724280" y="487692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1133" name="" descr=""/>
          <p:cNvPicPr/>
          <p:nvPr/>
        </p:nvPicPr>
        <p:blipFill>
          <a:blip r:embed="rId6"/>
          <a:stretch/>
        </p:blipFill>
        <p:spPr>
          <a:xfrm>
            <a:off x="83808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>
            <a:off x="1906560" y="4572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988 Spac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 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Design Credi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3520" y="12952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 Slide Show 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y Wy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Hope High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risville, 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1" name="Randy%202002%20School%20Photo" descr=""/>
          <p:cNvPicPr/>
          <p:nvPr/>
        </p:nvPicPr>
        <p:blipFill>
          <a:blip r:embed="rId2"/>
          <a:srcRect l="0" t="0" r="0" b="4599"/>
          <a:stretch/>
        </p:blipFill>
        <p:spPr>
          <a:xfrm>
            <a:off x="3657600" y="3429000"/>
            <a:ext cx="1798560" cy="236232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1676520" y="58672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ed from Slide Show by Carol N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Revision Hist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33520" y="1295280"/>
            <a:ext cx="80010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ion 4 – June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oints to doll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ed link to credits screen by clicking on “Math Jeopardy” on game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roblems and answers to generic place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or color and sound changes on opening game sc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ion 5 – September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ed macros and visual basic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for Teachers – Keep as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Help for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371600" y="1143000"/>
            <a:ext cx="7162920" cy="56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a new set of categories and proble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topics on title screen (slide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category headers on question board (slid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category help slides (immediately following question bo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y questions and answers (answers immediately follow each question sl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t and Paste Daily Dou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p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s and answers are MathType objects.  It is easier if you keep it that way.  Even for text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put copy of question on the answer slide, copy and paste the MathType object from the question slide then resiz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XIT graphic on the game board will exit WITHOUT saving anything.  It is intended for student use when play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sure you test your game to make sure everything is linked and working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playing the intro screen of the game you can click in the lower right corner at any time to skip the intro and go directly to the question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any hyper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867280" y="6324480"/>
            <a:ext cx="30596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 &lt;ctrl&gt;&lt;home&gt; to return to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5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at6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971800" y="2438280"/>
          <a:ext cx="331164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31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CPSS</cp:lastModifiedBy>
  <dcterms:modified xsi:type="dcterms:W3CDTF">2003-10-07T14:55:59Z</dcterms:modified>
  <cp:revision>205</cp:revision>
  <dc:subject/>
  <dc:title>PowerPoint Presentation</dc:title>
</cp:coreProperties>
</file>